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18.wmf" ContentType="image/x-wmf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wmf" ContentType="image/x-wmf"/>
  <Override PartName="/ppt/media/image19.jpeg" ContentType="image/jpeg"/>
  <Override PartName="/ppt/media/image20.jpeg" ContentType="image/jpeg"/>
  <Override PartName="/ppt/media/image15.jpeg" ContentType="image/jpeg"/>
  <Override PartName="/ppt/media/image16.jpeg" ContentType="image/jpeg"/>
  <Override PartName="/ppt/media/image14.jpeg" ContentType="image/jpeg"/>
  <Override PartName="/ppt/media/image1.wmf" ContentType="image/x-wmf"/>
  <Override PartName="/ppt/media/image23.jpeg" ContentType="image/jpeg"/>
  <Override PartName="/ppt/media/image2.wmf" ContentType="image/x-wmf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19268-628C-4150-ADC7-10BC847BC87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etic Tra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etic Tra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nde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nde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cientists have reported that handedness is due to a single gene with right handedness dominant and left handedness recessive.  However, other scientists have reported that the interaction of two genes is responsible for this tra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cientists have reported that handedness is due to a single gene with right handedness dominant and left handedness recessive.  However, other scientists have reported that the interaction of two genes is responsible for this tra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reck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reck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rait is reportedly due to a single gene’ the presence of freckles is dominant, the absence of freckles is recess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rait is reportedly due to a single gene’ the presence of freckles is dominant, the absence of freckles is recess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ir cur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ir cur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geneticists reported that curly hair was dominant and strait hair was recessive.  More recent scientists believe that more than one gene may be invol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geneticists reported that curly hair was dominant and strait hair was recessive.  More recent scientists believe that more than one gene may be invol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ler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ler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le allergic reactions are induced by things a person comes in contact with, such as dust, particular foods, and pollen, the tendency to have allergies is inherited.  If a parent has allergies, there is a one in four (25%) chance that their child will also have allergy problems.  The risk increases if both parents have allerg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le allergic reactions are induced by things a person comes in contact with, such as dust, particular foods, and pollen, the tendency to have allergies is inherited.  If a parent has allergies, there is a one in four (25%) chance that their child will also have allergy problems.  The risk increases if both parents have allerg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nd Clas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nd Clas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cientists report that there may be a genetic component to this trait while others have found no evidence to suppor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cientists report that there may be a genetic component to this trait while others have found no evidence to suppor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arlo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tach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arlo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tach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lor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lor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blindness is due to a recessive allele located on the X chromosome.  Women have two X chromosomes, one of which usually carries the allele for normal color vision.  Therefore, few women are colorblind.  Men only have one X chromosome, so if they carry the allele for colorblindness, they will exhibit this trait.  Thus, colorblindness is seen more frequently in men than in wom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blindness is due to a recessive allele located on the X chromosome.  Women have two X chromosomes, one of which usually carries the allele for normal color vision.  Therefore, few women are colorblind.  Men only have one X chromosome, so if they carry the allele for colorblindness, they will exhibit this trait.  Thus, colorblindness is seen more frequently in men than in wom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d of show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d of show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cientists have reported that this trait is due to a single gene for which unattached earlobes is dominant and an attached earlobe is recessive. Other scientists have reported that this trait is probably due to several ge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cientists have reported that this trait is due to a single gene for which unattached earlobes is dominant and an attached earlobe is recessive. Other scientists have reported that this trait is probably due to several ge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umb Ext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umb Ext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rait is reportedly due to a single gene; strait thumb is dominant and hitchhiker's thumb is recess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rait is reportedly due to a single gene; strait thumb is dominant and hitchhiker's thumb is recess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ongue Rol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ongue Rol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ngue rolling ability may be due to a single gene with the ability to roll the tongue a dominant trait and the lack of tongue rolling ability a recessive trait.However, many twins do not share the trait, so it may not be inheri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ngue rolling ability may be due to a single gene with the ability to roll the tongue a dominant trait and the lack of tongue rolling ability a recessive trait.However, many twins do not share the trait, so it may not be inheri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mples are reportedly due to a single gene with dimples dominant (people may exibit a dimple on only one side of the face) and a lack of dimples is recess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mples are reportedly due to a single gene with dimples dominant (people may exibit a dimple on only one side of the face) and a lack of dimples is recess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6A2E-0EC7-435F-AA1E-5067268C3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CECA-5522-4736-B13C-7BD1C8CFE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08A2-37DE-47A8-823D-9A8D324BC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D3AC-1051-45B6-B7B7-E10743EDE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5528-6FBD-4F14-AA54-E7D1CE64B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21FF-4CB9-4049-A012-9F6887050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1BBC-C9C1-4AC0-9CAC-976A8C749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B705-9B50-4034-B41B-7CAF789FC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2DE9-C725-46C8-8679-813AF3057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EB13-6755-4C2F-BE51-6CE5CF3DD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46C5-79F5-4BC2-ACA2-44F3FCD4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CC63-9F15-49CD-8803-22D96338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44709-87E8-4330-88E8-5F7E8D2873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wmf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wmf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Book Antiqua"/>
              </a:rPr>
              <a:t>Genetic Traits</a:t>
            </a: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pe02719_"/>
          <p:cNvPicPr/>
          <p:nvPr/>
        </p:nvPicPr>
        <p:blipFill>
          <a:blip r:embed="rId1"/>
          <a:stretch/>
        </p:blipFill>
        <p:spPr>
          <a:xfrm>
            <a:off x="457200" y="4724280"/>
            <a:ext cx="1738440" cy="1683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bd20082_"/>
          <p:cNvPicPr/>
          <p:nvPr/>
        </p:nvPicPr>
        <p:blipFill>
          <a:blip r:embed="rId2"/>
          <a:stretch/>
        </p:blipFill>
        <p:spPr>
          <a:xfrm>
            <a:off x="7272360" y="4608360"/>
            <a:ext cx="1871640" cy="2249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j0403720"/>
          <p:cNvPicPr/>
          <p:nvPr/>
        </p:nvPicPr>
        <p:blipFill>
          <a:blip r:embed="rId3"/>
          <a:stretch/>
        </p:blipFill>
        <p:spPr>
          <a:xfrm>
            <a:off x="7188120" y="0"/>
            <a:ext cx="1955880" cy="2446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j0396128"/>
          <p:cNvPicPr/>
          <p:nvPr/>
        </p:nvPicPr>
        <p:blipFill>
          <a:blip r:embed="rId4"/>
          <a:stretch/>
        </p:blipFill>
        <p:spPr>
          <a:xfrm>
            <a:off x="228600" y="228600"/>
            <a:ext cx="1554120" cy="234144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1676520" y="1981080"/>
            <a:ext cx="60195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Handednes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3" descr="j0403720"/>
          <p:cNvPicPr/>
          <p:nvPr/>
        </p:nvPicPr>
        <p:blipFill>
          <a:blip r:embed="rId1"/>
          <a:stretch/>
        </p:blipFill>
        <p:spPr>
          <a:xfrm>
            <a:off x="6477120" y="228600"/>
            <a:ext cx="1434960" cy="1793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j0428643"/>
          <p:cNvPicPr/>
          <p:nvPr/>
        </p:nvPicPr>
        <p:blipFill>
          <a:blip r:embed="rId2"/>
          <a:stretch/>
        </p:blipFill>
        <p:spPr>
          <a:xfrm>
            <a:off x="5105520" y="3429000"/>
            <a:ext cx="3749400" cy="3046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j0411802"/>
          <p:cNvPicPr/>
          <p:nvPr/>
        </p:nvPicPr>
        <p:blipFill>
          <a:blip r:embed="rId3"/>
          <a:stretch/>
        </p:blipFill>
        <p:spPr>
          <a:xfrm>
            <a:off x="457200" y="3276720"/>
            <a:ext cx="2819520" cy="281916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Some scientists have reported that handedness is due to a single gene with right handedness dominant and left handedness recessive.  However, other scientists have reported that the interaction of two genes is responsible for this trai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1676520" y="1981080"/>
            <a:ext cx="6019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Freckle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4" descr="j0411750"/>
          <p:cNvPicPr/>
          <p:nvPr/>
        </p:nvPicPr>
        <p:blipFill>
          <a:blip r:embed="rId1"/>
          <a:stretch/>
        </p:blipFill>
        <p:spPr>
          <a:xfrm>
            <a:off x="4572000" y="4038480"/>
            <a:ext cx="2819520" cy="28195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j0402654"/>
          <p:cNvPicPr/>
          <p:nvPr/>
        </p:nvPicPr>
        <p:blipFill>
          <a:blip r:embed="rId2"/>
          <a:stretch/>
        </p:blipFill>
        <p:spPr>
          <a:xfrm>
            <a:off x="685800" y="533520"/>
            <a:ext cx="1728720" cy="259056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This trait is reportedly due to a single gene’ the presence of freckles is dominant, the absence of freckles is recessiv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676520" y="1981080"/>
            <a:ext cx="6019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Hair cur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3" descr="j0227518"/>
          <p:cNvPicPr/>
          <p:nvPr/>
        </p:nvPicPr>
        <p:blipFill>
          <a:blip r:embed="rId1"/>
          <a:stretch/>
        </p:blipFill>
        <p:spPr>
          <a:xfrm>
            <a:off x="0" y="0"/>
            <a:ext cx="3048120" cy="2043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j0411750"/>
          <p:cNvPicPr/>
          <p:nvPr/>
        </p:nvPicPr>
        <p:blipFill>
          <a:blip r:embed="rId2"/>
          <a:stretch/>
        </p:blipFill>
        <p:spPr>
          <a:xfrm>
            <a:off x="6095880" y="3809880"/>
            <a:ext cx="2819520" cy="281952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Early geneticists reported that curly hair was dominant and strait hair was recessive.  More recent scientists believe that more than one gene may be involv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1676520" y="1981080"/>
            <a:ext cx="6019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Allergie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3" descr="j0422448"/>
          <p:cNvPicPr/>
          <p:nvPr/>
        </p:nvPicPr>
        <p:blipFill>
          <a:blip r:embed="rId1"/>
          <a:stretch/>
        </p:blipFill>
        <p:spPr>
          <a:xfrm>
            <a:off x="0" y="0"/>
            <a:ext cx="1773360" cy="23623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j0397871"/>
          <p:cNvPicPr/>
          <p:nvPr/>
        </p:nvPicPr>
        <p:blipFill>
          <a:blip r:embed="rId2"/>
          <a:stretch/>
        </p:blipFill>
        <p:spPr>
          <a:xfrm>
            <a:off x="4191120" y="4343400"/>
            <a:ext cx="898560" cy="930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j0400574"/>
          <p:cNvPicPr/>
          <p:nvPr/>
        </p:nvPicPr>
        <p:blipFill>
          <a:blip r:embed="rId3"/>
          <a:stretch/>
        </p:blipFill>
        <p:spPr>
          <a:xfrm>
            <a:off x="7391520" y="0"/>
            <a:ext cx="1434960" cy="1793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j0341905"/>
          <p:cNvPicPr/>
          <p:nvPr/>
        </p:nvPicPr>
        <p:blipFill>
          <a:blip r:embed="rId4"/>
          <a:stretch/>
        </p:blipFill>
        <p:spPr>
          <a:xfrm>
            <a:off x="0" y="4419720"/>
            <a:ext cx="1739880" cy="2438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j0350669"/>
          <p:cNvPicPr/>
          <p:nvPr/>
        </p:nvPicPr>
        <p:blipFill>
          <a:blip r:embed="rId5"/>
          <a:stretch/>
        </p:blipFill>
        <p:spPr>
          <a:xfrm>
            <a:off x="3352680" y="609480"/>
            <a:ext cx="1816200" cy="10940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j0411667"/>
          <p:cNvPicPr/>
          <p:nvPr/>
        </p:nvPicPr>
        <p:blipFill>
          <a:blip r:embed="rId6"/>
          <a:stretch/>
        </p:blipFill>
        <p:spPr>
          <a:xfrm>
            <a:off x="6553080" y="45720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Book Antiqua"/>
              </a:rPr>
              <a:t>While allergic reactions are induced by things a person comes in contact with, such as dust, particular foods, and pollen, the tendency to have allergies is inherited.  If a parent has allergies, there is a one in four (25%) chance that their child will also have allergy problems.  The risk increases if both parents have allergies.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1676520" y="1981080"/>
            <a:ext cx="60195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Hand Claspin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3" descr="j0428643"/>
          <p:cNvPicPr/>
          <p:nvPr/>
        </p:nvPicPr>
        <p:blipFill>
          <a:blip r:embed="rId1"/>
          <a:stretch/>
        </p:blipFill>
        <p:spPr>
          <a:xfrm>
            <a:off x="152280" y="228600"/>
            <a:ext cx="3063960" cy="248904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Some scientists report that there may be a genetic component to this trait while others have found no evidence to support thi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676520" y="1981080"/>
            <a:ext cx="563868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Earlob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Attachmen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3" descr="j0409149"/>
          <p:cNvPicPr/>
          <p:nvPr/>
        </p:nvPicPr>
        <p:blipFill>
          <a:blip r:embed="rId1"/>
          <a:stretch/>
        </p:blipFill>
        <p:spPr>
          <a:xfrm>
            <a:off x="380880" y="609480"/>
            <a:ext cx="2057400" cy="221004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1066680" y="19810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Colorblindnes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3" descr="j0396128"/>
          <p:cNvPicPr/>
          <p:nvPr/>
        </p:nvPicPr>
        <p:blipFill>
          <a:blip r:embed="rId1"/>
          <a:stretch/>
        </p:blipFill>
        <p:spPr>
          <a:xfrm>
            <a:off x="3733920" y="3124080"/>
            <a:ext cx="1554120" cy="23418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j0406700"/>
          <p:cNvPicPr/>
          <p:nvPr/>
        </p:nvPicPr>
        <p:blipFill>
          <a:blip r:embed="rId2"/>
          <a:stretch/>
        </p:blipFill>
        <p:spPr>
          <a:xfrm>
            <a:off x="6095880" y="4827600"/>
            <a:ext cx="3048120" cy="20304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j0428588"/>
          <p:cNvPicPr/>
          <p:nvPr/>
        </p:nvPicPr>
        <p:blipFill>
          <a:blip r:embed="rId3"/>
          <a:stretch/>
        </p:blipFill>
        <p:spPr>
          <a:xfrm>
            <a:off x="0" y="4967280"/>
            <a:ext cx="2835360" cy="1890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j0409311"/>
          <p:cNvPicPr/>
          <p:nvPr/>
        </p:nvPicPr>
        <p:blipFill>
          <a:blip r:embed="rId4"/>
          <a:stretch/>
        </p:blipFill>
        <p:spPr>
          <a:xfrm>
            <a:off x="7086600" y="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j0409654"/>
          <p:cNvPicPr/>
          <p:nvPr/>
        </p:nvPicPr>
        <p:blipFill>
          <a:blip r:embed="rId5"/>
          <a:stretch/>
        </p:blipFill>
        <p:spPr>
          <a:xfrm>
            <a:off x="0" y="0"/>
            <a:ext cx="3200400" cy="213516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Colorblindness is due to a recessive allele located on the X chromosome.  Women have two X chromosomes, one of which usually carries the allele for normal color vision.  Therefore, few women are colorblind.  Men only have one X chromosome, so if they carry the allele for colorblindness, they will exhibit this trait.  Thus, colorblindness is seen more frequently in men than in wom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1066680" y="19810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End of show…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Some scientists have reported that this trait is due to a single gene for which unattached earlobes is dominant and an attached earlobe is recessive. Other scientists have reported that this trait is probably due to several gen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1676520" y="1981080"/>
            <a:ext cx="5638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Thumb Extensio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3" descr="j0402542"/>
          <p:cNvPicPr/>
          <p:nvPr/>
        </p:nvPicPr>
        <p:blipFill>
          <a:blip r:embed="rId1"/>
          <a:stretch/>
        </p:blipFill>
        <p:spPr>
          <a:xfrm>
            <a:off x="0" y="0"/>
            <a:ext cx="2394000" cy="3352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j0402585"/>
          <p:cNvPicPr/>
          <p:nvPr/>
        </p:nvPicPr>
        <p:blipFill>
          <a:blip r:embed="rId2"/>
          <a:stretch/>
        </p:blipFill>
        <p:spPr>
          <a:xfrm>
            <a:off x="6858000" y="4495680"/>
            <a:ext cx="1981080" cy="198144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This trait is reportedly due to a single gene; strait thumb is dominant and hitchhiker's thumb is recessiv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1676520" y="1981080"/>
            <a:ext cx="5638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Tongue Rollin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3" descr="j0262237"/>
          <p:cNvPicPr/>
          <p:nvPr/>
        </p:nvPicPr>
        <p:blipFill>
          <a:blip r:embed="rId1"/>
          <a:stretch/>
        </p:blipFill>
        <p:spPr>
          <a:xfrm>
            <a:off x="0" y="0"/>
            <a:ext cx="2378160" cy="3657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j0409525"/>
          <p:cNvPicPr/>
          <p:nvPr/>
        </p:nvPicPr>
        <p:blipFill>
          <a:blip r:embed="rId2"/>
          <a:stretch/>
        </p:blipFill>
        <p:spPr>
          <a:xfrm>
            <a:off x="5715000" y="4572000"/>
            <a:ext cx="3429000" cy="228600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Tongue rolling ability may be due to a single gene with the ability to roll the tongue a dominant trait and the lack of tongue rolling ability a recessive trait.However, many twins do not share the trait, so it may not be inherit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1676520" y="1981080"/>
            <a:ext cx="5638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Dimple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3" descr="j0411750"/>
          <p:cNvPicPr/>
          <p:nvPr/>
        </p:nvPicPr>
        <p:blipFill>
          <a:blip r:embed="rId1"/>
          <a:stretch/>
        </p:blipFill>
        <p:spPr>
          <a:xfrm>
            <a:off x="533520" y="3200400"/>
            <a:ext cx="2895480" cy="289548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Dimples are reportedly due to a single gene with dimples dominant (people may exibit a dimple on only one side of the face) and a lack of dimples is recessiv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21:18:45Z</dcterms:created>
  <dc:creator>Pam Tucker</dc:creator>
  <dc:description/>
  <dc:language>en-US</dc:language>
  <cp:lastModifiedBy>LEGION2</cp:lastModifiedBy>
  <dcterms:modified xsi:type="dcterms:W3CDTF">2016-01-12T11:01:12Z</dcterms:modified>
  <cp:revision>7</cp:revision>
  <dc:subject/>
  <dc:title>Genetic Traits</dc:title>
</cp:coreProperties>
</file>